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B98-BE64-42D3-9ECF-0613803D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97E-F359-4DE7-ABD9-5D850E3A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B68-8F0B-4A4E-B1D9-D010C829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E4B-E729-45E9-B2FE-FFCFF299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C4E0-025B-4676-9429-6C387BFF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005E-C781-4396-AEC4-0301741B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9EA3-7811-4C56-85B4-543389D2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3341-52EF-4B75-A16C-2DC437D1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B684-D6FF-4747-9A25-A5C6A7D1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59A3-ECC3-4A69-94D9-E4E107B6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FB8A-50AF-473C-9FCD-222D3FD0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9B1-FC0C-43EF-9504-D8BCE423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A702-27DA-41D4-8751-228C477C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E53E-B281-472D-8DB4-DE99774B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8F9C-2925-4481-BB19-CC6A0C3E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CD50-B341-45E2-839B-9A1D8B20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8908-9546-416D-BA69-300D1C80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E2F-D0DB-4663-9FD7-E3D48D10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354-A865-49B9-8A1B-2F1A802E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DC1-1F67-47A4-8E2A-0B1FCE3A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306-C335-43D7-9C06-1E3C1348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FD7-4A96-4FCA-8DCB-143C0FE5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84F-3864-4A14-BFF3-54E73303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2655-A0C4-4388-A00F-9F0B91D0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F5B3-2AA8-43F6-AE93-B12298360009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48D5-9591-45BA-9F8E-076FFB24F1AD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ional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28600" y="2590920"/>
                <a:ext cx="849168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3-18 (multiples of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9-29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order to clear the frac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every term by the LCD (least common denomin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lears the denominators and leaves you with the new num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tri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check to see if there are any restric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209680" y="2819520"/>
                <a:ext cx="39052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1776240" y="2819520"/>
                <a:ext cx="47739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1219320" y="2819520"/>
                <a:ext cx="588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94040" y="2819520"/>
                <a:ext cx="43401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095480" y="2819520"/>
                <a:ext cx="613872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8600" y="2438280"/>
                <a:ext cx="84945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5:17:53Z</dcterms:created>
  <dc:creator>Parkland High School</dc:creator>
  <dc:description/>
  <dc:language>en-US</dc:language>
  <cp:lastModifiedBy>test</cp:lastModifiedBy>
  <dcterms:modified xsi:type="dcterms:W3CDTF">2015-05-08T12:04:26Z</dcterms:modified>
  <cp:revision>2</cp:revision>
  <dc:subject/>
  <dc:title>Rational Equations</dc:title>
</cp:coreProperties>
</file>